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6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3BD-6F11-4AD9-AC63-B601EB77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F8-661D-40AA-AB8F-AA80317C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4C9-0183-4FA3-958D-64F3B70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10A-7621-4E59-92BC-0D51E9EF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7FB9-A20D-4EF7-80BE-1389296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8925-D98C-41DC-96DF-9B9F9C4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BDEC-CB9C-4AD7-AA9E-786C0693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5971-BD9A-49CB-8F85-DC6F2EF5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FD8-A996-4153-BC45-132A54DD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A96E-B8C8-43CC-8DBE-0CA25155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521A-A3C1-4FAD-8D37-BB353AA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BF8-367A-41EA-A0D2-1BD67C53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28F7-0970-4FC6-8174-FEB119E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3F80-294C-4DD7-9935-4DFE7C1A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2476-0712-4547-B704-FA2A583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FC68-211F-456B-8439-792AEAF9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00DB-5B4B-4C4A-8BA9-13FE616B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02A6-4E8F-430A-80B4-B95358A2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48CF-7EF9-4676-80B6-DCC6F5D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54F6-09CF-4C22-B804-8DDD1FCB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531B-5708-4BB8-8773-9A4D87CD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02A6-1BF2-4861-8110-52CA235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5D8-16ED-49DE-B0BD-05138BB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B982-1BA2-4E81-A57A-0F58A3A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C665-7DE2-43B5-A77A-7F57FA8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D07B-C577-4666-9CDA-C8BA65B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F775-4CB3-4EEF-B3AF-6D3DFA4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5C35-46D5-432C-BFDE-07AA1E9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9BC1-D8D2-46E2-BF07-E881F86F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7148-7F01-4086-8354-FAC0DF66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49DC-3EE8-4B13-BE27-B4FCCC30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4ACE-3757-45D3-B85A-91F71BC6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9B86-D6FA-40AB-BB28-16995F72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81A-D6A9-4F75-9455-3C74B83A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2C9D-7CDB-4E30-835B-C2638BF5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84F8-4593-4696-97C4-8506C8D4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AC06-5AC1-4E86-87CA-CD160778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32DC-2539-4BCC-8F52-1B62B21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69F2-D044-46D3-923B-9EA88A3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BEEDF-0F5C-42E1-B58D-BC43068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C0FE-9ABA-4928-923D-AF77C061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7542-F653-43E3-BA42-55858D7A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1AF2-D3E7-4B16-8184-33EBB56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CAA-760A-4A2C-B80A-FB95E220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D10-7EC8-4F09-9F2A-2E506CAC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250-4411-47C3-9F56-7C307F44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8CF-C9A3-447A-A6B7-DF2D0C1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D83-9EF1-434C-8B0B-29F62436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DA5-439A-437D-819A-62B2E57470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91BB-FD9D-47BB-83AF-E74ECC930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7A6B-E339-4937-A815-ECCE72C5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B67-998F-4906-A276-57DBB4FA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428920"/>
            <a:ext cx="87156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ОБОЉЕЊ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ЉУВАЧНИХ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ЖЛ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РОЂЕ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ПАЉЕЊА ПЉУВАЧНИХ 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ЉЕЊА У СКЛОПУ РЕУМАТ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ЈАЛОЛИТИЈ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0272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2682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тив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укле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гне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зонан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столо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ч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пираци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ГЛ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нд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ифициј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ор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ж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bimanual_palpation1333803711520"/>
          <p:cNvPicPr/>
          <p:nvPr/>
        </p:nvPicPr>
        <p:blipFill>
          <a:blip r:embed="rId2"/>
          <a:stretch/>
        </p:blipFill>
        <p:spPr>
          <a:xfrm>
            <a:off x="609480" y="4160880"/>
            <a:ext cx="3810240" cy="241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fp20020401p1379-f1b"/>
          <p:cNvPicPr/>
          <p:nvPr/>
        </p:nvPicPr>
        <p:blipFill>
          <a:blip r:embed="rId3"/>
          <a:stretch/>
        </p:blipFill>
        <p:spPr>
          <a:xfrm>
            <a:off x="4648320" y="4141800"/>
            <a:ext cx="3276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РОЂЕ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ОМАЛ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о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гене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су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атроф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ген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крж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есо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glandula parotis access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гв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блингвал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ЗАПАЉЕНСК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ктериј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ЕПИДЕМИЧ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МУМП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р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фини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з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нкреа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стис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таги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енерализов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ндем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ба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ин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љ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и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ј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унит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курент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о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Mumps"/>
          <p:cNvPicPr/>
          <p:nvPr/>
        </p:nvPicPr>
        <p:blipFill>
          <a:blip r:embed="rId4"/>
          <a:stretch/>
        </p:blipFill>
        <p:spPr>
          <a:xfrm>
            <a:off x="4724280" y="1523880"/>
            <a:ext cx="3905280" cy="22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parotitis2"/>
          <p:cNvPicPr/>
          <p:nvPr/>
        </p:nvPicPr>
        <p:blipFill>
          <a:blip r:embed="rId5"/>
          <a:stretch/>
        </p:blipFill>
        <p:spPr>
          <a:xfrm>
            <a:off x="4800600" y="3962520"/>
            <a:ext cx="3809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ађ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ктог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ри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њ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љувач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испонир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ку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гиј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абљ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8554028_f260"/>
          <p:cNvPicPr/>
          <p:nvPr/>
        </p:nvPicPr>
        <p:blipFill>
          <a:blip r:embed="rId2"/>
          <a:stretch/>
        </p:blipFill>
        <p:spPr>
          <a:xfrm>
            <a:off x="762120" y="4038480"/>
            <a:ext cx="2476440" cy="2467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Nd9GcQkw7KD2FY3laCFxIahfD27i_pD6B5kNoPy03EerTKuaXx0RZY8"/>
          <p:cNvPicPr/>
          <p:nvPr/>
        </p:nvPicPr>
        <p:blipFill>
          <a:blip r:embed="rId3"/>
          <a:stretch/>
        </p:blipFill>
        <p:spPr>
          <a:xfrm>
            <a:off x="3581280" y="4035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rostom31"/>
          <p:cNvPicPr/>
          <p:nvPr/>
        </p:nvPicPr>
        <p:blipFill>
          <a:blip r:embed="rId4"/>
          <a:stretch/>
        </p:blipFill>
        <p:spPr>
          <a:xfrm>
            <a:off x="6172200" y="4035600"/>
            <a:ext cx="2438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864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520" y="170028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к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му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нимал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оља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х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ет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ParotitisG"/>
          <p:cNvPicPr/>
          <p:nvPr/>
        </p:nvPicPr>
        <p:blipFill>
          <a:blip r:embed="rId2"/>
          <a:stretch/>
        </p:blipFill>
        <p:spPr>
          <a:xfrm>
            <a:off x="5796000" y="203364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брз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ј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иж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рику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пољ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ензив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уратив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бр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су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п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змус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о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ст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бо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уств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хекти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цпрље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бич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ж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ИАЛОАДЕН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УБМАНДИБУЛАРНЕ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38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ена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унку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ри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лул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ж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SpeidrAbsz"/>
          <p:cNvPicPr/>
          <p:nvPr/>
        </p:nvPicPr>
        <p:blipFill>
          <a:blip r:embed="rId2"/>
          <a:stretch/>
        </p:blipFill>
        <p:spPr>
          <a:xfrm>
            <a:off x="6200640" y="1773360"/>
            <a:ext cx="25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700280"/>
            <a:ext cx="44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окр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еродигестив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у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0-100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пств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-21542040" y="-263027880"/>
            <a:ext cx="646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-7947360" y="-263027880"/>
            <a:ext cx="502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žlezde su egzokrine žlezde gornjeg aerodigestivnog trakta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4887880" y="-263027880"/>
            <a:ext cx="1305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osnov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-21925800" y="-85482000"/>
            <a:ext cx="192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stvaranje i 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-3985200" y="-85482000"/>
            <a:ext cx="117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163960" y="-85482000"/>
            <a:ext cx="453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. Postoji tri para velikih i oko 700-1000 mal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578400" y="-85482000"/>
            <a:ext cx="490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-21926520" y="92063880"/>
            <a:ext cx="2581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a. U grupu velik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37400" y="92063880"/>
            <a:ext cx="501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žlezda spadaju: parotidne, submandibularne i sublingval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-21931920" y="269587080"/>
            <a:ext cx="612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e. One su sa usnom dupljom povezane preko sopstvenih izvodnih kan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sal_g_st"/>
          <p:cNvPicPr/>
          <p:nvPr/>
        </p:nvPicPr>
        <p:blipFill>
          <a:blip r:embed="rId2"/>
          <a:stretch/>
        </p:blipFill>
        <p:spPr>
          <a:xfrm>
            <a:off x="4971960" y="1676520"/>
            <a:ext cx="37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068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хо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гра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да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флог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игороз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гиј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зинфицијен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р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му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мб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дик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чу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пограф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ц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ш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ж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у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н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как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ил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осле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њ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измен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со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acute_infectious_parotitis1"/>
          <p:cNvPicPr/>
          <p:nvPr/>
        </p:nvPicPr>
        <p:blipFill>
          <a:blip r:embed="rId2"/>
          <a:stretch/>
        </p:blipFill>
        <p:spPr>
          <a:xfrm>
            <a:off x="5683320" y="1562040"/>
            <a:ext cx="3079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и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љ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ус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ц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с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ућ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нек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ст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хуљица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воћ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рија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ж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пизо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јал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агоц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алоекта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рана која стимулише саливацију, кисели слаткиши, жвакаћа г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ална хигиј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о лечење које обухвата субтоталну и тоталну паротидектомију индиковано је код болесника који имају опструктивне сметње са учесталим егзацербацијама у току вишегодишњег пери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parotidectomy3forde020409retrogradeb"/>
          <p:cNvPicPr/>
          <p:nvPr/>
        </p:nvPicPr>
        <p:blipFill>
          <a:blip r:embed="rId2"/>
          <a:stretch/>
        </p:blipFill>
        <p:spPr>
          <a:xfrm>
            <a:off x="4876920" y="19890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KULICZ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ВO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БО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етрич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куд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птоматологиј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ниг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9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јави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2560" y="128592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ћ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ија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ератоцоњунцтив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ц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ростоми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хеумато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ртхрити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им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icca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photo_1-1c55ceda05a10f7be9795067cee243f5"/>
          <p:cNvPicPr/>
          <p:nvPr/>
        </p:nvPicPr>
        <p:blipFill>
          <a:blip r:embed="rId2"/>
          <a:stretch/>
        </p:blipFill>
        <p:spPr>
          <a:xfrm>
            <a:off x="5000760" y="4357800"/>
            <a:ext cx="1447560" cy="213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756148-808418-809290-1782295"/>
          <p:cNvPicPr/>
          <p:nvPr/>
        </p:nvPicPr>
        <p:blipFill>
          <a:blip r:embed="rId3"/>
          <a:stretch/>
        </p:blipFill>
        <p:spPr>
          <a:xfrm>
            <a:off x="5002200" y="1295280"/>
            <a:ext cx="3855960" cy="295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52569694225"/>
          <p:cNvPicPr/>
          <p:nvPr/>
        </p:nvPicPr>
        <p:blipFill>
          <a:blip r:embed="rId4"/>
          <a:stretch/>
        </p:blipFill>
        <p:spPr>
          <a:xfrm>
            <a:off x="6643800" y="457200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i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ат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ан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умат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р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инфламато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ш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супрес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сто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фтал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м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гог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локарп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достиг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ифиције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шта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лул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79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лцифик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кре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х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олу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јало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а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р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SM+stones"/>
          <p:cNvPicPr/>
          <p:nvPr/>
        </p:nvPicPr>
        <p:blipFill>
          <a:blip r:embed="rId2"/>
          <a:stretch/>
        </p:blipFill>
        <p:spPr>
          <a:xfrm>
            <a:off x="5448240" y="12859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Salivary_gland_stone_removed"/>
          <p:cNvPicPr/>
          <p:nvPr/>
        </p:nvPicPr>
        <p:blipFill>
          <a:blip r:embed="rId3"/>
          <a:stretch/>
        </p:blipFill>
        <p:spPr>
          <a:xfrm>
            <a:off x="5381640" y="3486240"/>
            <a:ext cx="31003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0120" y="16524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3480" y="1213920"/>
            <a:ext cx="5600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шт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овлађ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паж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чиња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как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о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крет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еш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в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н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пр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сре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ј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ектом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рагланд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трањ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ир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maxresdefault"/>
          <p:cNvPicPr/>
          <p:nvPr/>
        </p:nvPicPr>
        <p:blipFill>
          <a:blip r:embed="rId2"/>
          <a:srcRect l="6835" t="6063" r="8465" b="5706"/>
          <a:stretch/>
        </p:blipFill>
        <p:spPr>
          <a:xfrm>
            <a:off x="5724360" y="2427120"/>
            <a:ext cx="3229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ЦИСТ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0040" y="1528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JClinImagingSci_2013_3_2_10_120793_u1"/>
          <p:cNvPicPr/>
          <p:nvPr/>
        </p:nvPicPr>
        <p:blipFill>
          <a:blip r:embed="rId2"/>
          <a:stretch/>
        </p:blipFill>
        <p:spPr>
          <a:xfrm>
            <a:off x="4714920" y="3786120"/>
            <a:ext cx="3197160" cy="2436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ANd9GcTYMl3M_rxqVfBBbJQgfxkgXZLOa59nOqF3XfFXNWbfyzVlskZTuQ"/>
          <p:cNvPicPr/>
          <p:nvPr/>
        </p:nvPicPr>
        <p:blipFill>
          <a:blip r:embed="rId3"/>
          <a:stretch/>
        </p:blipFill>
        <p:spPr>
          <a:xfrm>
            <a:off x="1133640" y="3786120"/>
            <a:ext cx="28954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укоз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нз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б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ромолар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анд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нов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ге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thyroid_cancer-2"/>
          <p:cNvPicPr/>
          <p:nvPr/>
        </p:nvPicPr>
        <p:blipFill>
          <a:blip r:embed="rId3"/>
          <a:stretch/>
        </p:blipFill>
        <p:spPr>
          <a:xfrm>
            <a:off x="4724280" y="1752480"/>
            <a:ext cx="3911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12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29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а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пљ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ав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узим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77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столошк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цидива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трау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к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ицк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едстве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ли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гуснут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ри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2894742_1472-6831-10-15-5"/>
          <p:cNvPicPr/>
          <p:nvPr/>
        </p:nvPicPr>
        <p:blipFill>
          <a:blip r:embed="rId2"/>
          <a:stretch/>
        </p:blipFill>
        <p:spPr>
          <a:xfrm>
            <a:off x="5594400" y="1413000"/>
            <a:ext cx="3186000" cy="2365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mucocele"/>
          <p:cNvPicPr/>
          <p:nvPr/>
        </p:nvPicPr>
        <p:blipFill>
          <a:blip r:embed="rId3"/>
          <a:stretch/>
        </p:blipFill>
        <p:spPr>
          <a:xfrm>
            <a:off x="5580000" y="3959280"/>
            <a:ext cx="31860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9680" y="1214280"/>
            <a:ext cx="8032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птас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бој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бо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укту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роме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-1.5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чн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сти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ч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ш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аваза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ен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ир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mucous_retention_cyst1316297207789"/>
          <p:cNvPicPr/>
          <p:nvPr/>
        </p:nvPicPr>
        <p:blipFill>
          <a:blip r:embed="rId3"/>
          <a:stretch/>
        </p:blipFill>
        <p:spPr>
          <a:xfrm>
            <a:off x="380880" y="4038480"/>
            <a:ext cx="2743200" cy="203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ANd9GcSlmNjl7ak6eMpxPD8ZMzkqKXsz3VK8FRtQn1LkUAmVcQjJi9Ar"/>
          <p:cNvPicPr/>
          <p:nvPr/>
        </p:nvPicPr>
        <p:blipFill>
          <a:blip r:embed="rId4"/>
          <a:stretch/>
        </p:blipFill>
        <p:spPr>
          <a:xfrm>
            <a:off x="320040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mucocele-1024x682"/>
          <p:cNvPicPr/>
          <p:nvPr/>
        </p:nvPicPr>
        <p:blipFill>
          <a:blip r:embed="rId5"/>
          <a:stretch/>
        </p:blipFill>
        <p:spPr>
          <a:xfrm>
            <a:off x="6019920" y="4038480"/>
            <a:ext cx="2666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лтилокулар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frenul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lingu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роват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луцент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љ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бух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соб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lip_image002_0004"/>
          <p:cNvPicPr/>
          <p:nvPr/>
        </p:nvPicPr>
        <p:blipFill>
          <a:blip r:embed="rId2"/>
          <a:stretch/>
        </p:blipFill>
        <p:spPr>
          <a:xfrm>
            <a:off x="765000" y="4214880"/>
            <a:ext cx="258768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downloadRANULA"/>
          <p:cNvPicPr/>
          <p:nvPr/>
        </p:nvPicPr>
        <p:blipFill>
          <a:blip r:embed="rId3"/>
          <a:stretch/>
        </p:blipFill>
        <p:spPr>
          <a:xfrm>
            <a:off x="3505320" y="4214880"/>
            <a:ext cx="259056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ANd9GcS39wVCiEBRUjmoO23wuID4XVvdbVWCet62kCnCVO2HOJWQwpUt"/>
          <p:cNvPicPr/>
          <p:nvPr/>
        </p:nvPicPr>
        <p:blipFill>
          <a:blip r:embed="rId4"/>
          <a:stretch/>
        </p:blipFill>
        <p:spPr>
          <a:xfrm>
            <a:off x="6248520" y="4214880"/>
            <a:ext cx="24382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2560" y="126648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сага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ниј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уд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ylohyoideu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рије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шча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нирућ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ћи 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хиои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актеристич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боје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љашњ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ент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22-1460176%5C35af3e2b-3d43-4eea-a6b1-f44678eb8e48"/>
          <p:cNvPicPr/>
          <p:nvPr/>
        </p:nvPicPr>
        <p:blipFill>
          <a:blip r:embed="rId2"/>
          <a:stretch/>
        </p:blipFill>
        <p:spPr>
          <a:xfrm>
            <a:off x="5808600" y="2428920"/>
            <a:ext cx="3121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5359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морф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ц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р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ч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шо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X2604-S-03"/>
          <p:cNvPicPr/>
          <p:nvPr/>
        </p:nvPicPr>
        <p:blipFill>
          <a:blip r:embed="rId2"/>
          <a:stretch/>
        </p:blipFill>
        <p:spPr>
          <a:xfrm>
            <a:off x="2050920" y="3570120"/>
            <a:ext cx="563904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УН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15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значај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лаж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т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оло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ш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к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тофер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зо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оксид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ил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крето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ал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омије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бео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oxack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редни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у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ез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статив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ку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ЕЛИК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image"/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Д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тидна жлезда је највећа пљувачна жлезда, искључиво серозног ти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стоји се из два лобуса, суперфицијалног и дубок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оз ткиво жлезде пролаз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facialis, n. auriculotemporalis, n. auricularis magnus, v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ialis poste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а југуларна вена, стабло спољне каротидне артерије која се горњем делу жлезде рачва у завршне жлезде и дубоке паротидне лимфне чво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saliva19a"/>
          <p:cNvPicPr/>
          <p:nvPr/>
        </p:nvPicPr>
        <p:blipFill>
          <a:blip r:embed="rId2"/>
          <a:stretch/>
        </p:blipFill>
        <p:spPr>
          <a:xfrm>
            <a:off x="457200" y="182880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МАНДИБУЛАР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љува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и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су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и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ductus submandibularis Whart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јез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енул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salivanet47"/>
          <p:cNvPicPr/>
          <p:nvPr/>
        </p:nvPicPr>
        <p:blipFill>
          <a:blip r:embed="rId2"/>
          <a:stretch/>
        </p:blipFill>
        <p:spPr>
          <a:xfrm>
            <a:off x="4762440" y="251928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ЛИНГВАЛ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је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в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hartonov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salivanet53"/>
          <p:cNvPicPr/>
          <p:nvPr/>
        </p:nvPicPr>
        <p:blipFill>
          <a:blip r:embed="rId2"/>
          <a:stretch/>
        </p:blipFill>
        <p:spPr>
          <a:xfrm>
            <a:off x="4648320" y="23004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2:29:17Z</dcterms:modified>
  <cp:revision>739</cp:revision>
  <dc:subject/>
  <dc:title>Diapositiva 1</dc:title>
</cp:coreProperties>
</file>